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</p:sldIdLst>
  <p:sldSz cx="6858000" cy="5145088"/>
  <p:notesSz cx="9144000" cy="5145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51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5179680" y="0"/>
            <a:ext cx="39625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20"/>
          </p:nvPr>
        </p:nvSpPr>
        <p:spPr>
          <a:xfrm>
            <a:off x="-360" y="4885920"/>
            <a:ext cx="39625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21"/>
          </p:nvPr>
        </p:nvSpPr>
        <p:spPr>
          <a:xfrm>
            <a:off x="5179680" y="4885920"/>
            <a:ext cx="39625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E4C9-12F9-4166-A9EC-05CD1E81A3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684A-695F-43AD-A3A1-3D568AA595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FCFD-7BD0-4A65-A69B-27D2F2F8E9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C85B-DBA9-483E-95E2-981FC23B11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654F-29DA-4B93-B8D5-1228055801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385-2DF5-4CC3-B080-AEF60347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532-0038-4B32-A32E-20FB15AE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785-649F-46D9-BA3B-60027E2A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E0C-1625-462A-888B-CAF63AA6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A9F8-69E4-4DC6-900E-63CB4EFC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34B8-8E33-4843-AD0B-A9223D73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B3E8-E9C7-4A35-A467-69274289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2476-2F18-44C9-93B7-79978753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4686-F172-45A8-8326-9300B99F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140E-F5BF-4AA2-9347-CEF6BBAC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DD32-4560-4220-85D8-55099EAA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EAC-3880-4B24-865B-D15916DB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5D97-DA21-4C96-B9E1-A3578A58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E95B-8B43-403A-A5EF-62CB7C62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8D88-A3AE-4E27-BE91-4960A618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257E-D5AF-480F-915B-FEC6DF29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3B6D-CDCB-4EA8-895A-AAA022CB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214F2-FB7E-4C5E-A17A-DC4ED26F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3ABD1-8E0C-4B50-A1DC-3CC1771A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25B9A-04FF-48D1-AA27-80E87475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D0E9-6E0D-4D71-AB9F-BE25CBC9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8B69-03A6-451B-8971-6A70E5FC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684-7CCA-4B3C-9F0D-D28DBE61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0EEC7-70EE-48DA-ADBC-24A56260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B14D-59B6-4312-9BB8-3076FF8A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F0549-466F-4E01-98E3-A4224531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E0E48-AD4D-4CB9-A07B-01E5E21D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7B1B7-E979-424F-A170-12365631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E5926-F343-467C-BA9A-F7A16B81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7ED90-989F-4C4B-A2BB-CC48431F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92615-2F54-4E76-AA1F-806185F4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8AAC6-A2C0-468F-B605-64EE6FE4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35528-B0D7-4DCA-B3F9-5C11C001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767-64DC-4BC7-9386-D69985DA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6A26B-CD6D-44C5-AF23-2C8180FC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BB612-6CF8-484F-81E6-C1CEAA6C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9BBBD-D7D9-4EDF-ACE0-052478BC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950A9-FC9A-4477-AE69-3ECAFC87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2F023-A162-40A3-9B98-C4E003C6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47BAC-CC3E-4D37-962F-2FAA2EF3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02B9D-8923-45F4-B180-AFD5F67A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484E9-2DBF-4946-9593-BC2C888D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39092-DCDC-416E-85BA-B0BE6821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DBC81-B8D2-4C5B-9A6C-3CCB1486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668-BC4A-424A-A5C4-56DE539F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A5438-37DB-4665-B3E7-16F2F022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EDF5A-D135-4CA3-8B7E-DB7EF122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CCAA7-8A31-4FAB-A01F-5AA22F90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6DB26-16A5-4E4C-9D36-132951F8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FE6A7-19EF-4881-9641-AE4627B0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1647C-B8E0-4BC0-A590-1FA78A33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90594-1157-4F31-8E5F-16D7A51B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37814-D57F-4418-8E33-72CAE30A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BEF2D-862C-467A-89E7-A8F7140E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97EFC-ADB4-440D-90BF-4FAF6CC7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4247-43EF-4CC1-B18E-4C90A82E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65D1D-59B2-4A1A-87E9-9BB614A2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7756A-C457-4B6C-B924-B8CA1580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118E4-1026-476A-9756-75B4F09A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2A676-4CD0-4499-A05F-36781AE0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CD2F9-6D66-4310-969C-4F395DF6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BF805-5BAE-4D80-8CA5-A58543BF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F8E7A-9D22-4CCE-BBF0-ABB80C45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A3DA7-B2F3-4535-8CAD-A099690E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B24BD-5661-4D69-9A4C-20D7E233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EE449-E609-4669-850F-CCE46967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C53-09DC-4C26-8A76-91E6E213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8DB32-8CB7-4964-B69D-56ECFC17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8E6DF-46FE-47F2-A6AD-BCC57F07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97045-0FEC-44AC-9586-616AFCD1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480-DFE3-4D2A-A4F6-9B593ED6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FA6-99C0-4773-AE1B-98D2D2BE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k object 16"/>
          <p:cNvSpPr/>
          <p:nvPr/>
        </p:nvSpPr>
        <p:spPr>
          <a:xfrm>
            <a:off x="0" y="0"/>
            <a:ext cx="6858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2060-576B-41CB-9C60-0659F4C9FB0B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8CE9-0435-471D-9200-E6F92A78F863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7FA9-F61F-4D97-8B91-E1B750E50F1D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1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6D2B-37F8-4022-B5C6-E38F5225FFD1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bk object 16"/>
          <p:cNvSpPr/>
          <p:nvPr/>
        </p:nvSpPr>
        <p:spPr>
          <a:xfrm>
            <a:off x="0" y="0"/>
            <a:ext cx="6858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3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4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492A-A205-4A2E-90FE-A2FE751D0C64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6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7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DE59-C01E-419F-801E-E653D08013CA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2240" y="1906560"/>
            <a:ext cx="6549840" cy="563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0" rIns="0" tIns="1008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Рабочая программа дисциплины (Б1.В.ДВ.3) </a:t>
            </a:r>
            <a:br>
              <a:rPr sz="1800"/>
            </a:br>
            <a:r>
              <a:rPr b="0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«Педагогическая инноватика»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2371680" y="115920"/>
            <a:ext cx="1943280" cy="1790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2371680" y="2470320"/>
            <a:ext cx="1943280" cy="18396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1"/>
          <a:stretch/>
        </p:blipFill>
        <p:spPr>
          <a:xfrm>
            <a:off x="2951280" y="2560680"/>
            <a:ext cx="779400" cy="9637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2293920" y="3614760"/>
            <a:ext cx="20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ffff"/>
                </a:solidFill>
                <a:latin typeface="Calibri"/>
              </a:rPr>
              <a:t>Г.А. Игнатьева, доктор пед. наук, профессор, зав. кафедрой педагог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ffff"/>
                </a:solidFill>
                <a:latin typeface="Calibri"/>
              </a:rPr>
              <a:t>и андрагогики ГБОУ ДПО НИР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7"/>
          <p:cNvSpPr/>
          <p:nvPr/>
        </p:nvSpPr>
        <p:spPr>
          <a:xfrm>
            <a:off x="985680" y="1376280"/>
            <a:ext cx="1406520" cy="2811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ww.niro.nnov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Рисунок 13" descr=""/>
          <p:cNvPicPr/>
          <p:nvPr/>
        </p:nvPicPr>
        <p:blipFill>
          <a:blip r:embed="rId2"/>
          <a:stretch/>
        </p:blipFill>
        <p:spPr>
          <a:xfrm>
            <a:off x="184320" y="763560"/>
            <a:ext cx="801360" cy="6494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9"/>
          <p:cNvSpPr/>
          <p:nvPr/>
        </p:nvSpPr>
        <p:spPr>
          <a:xfrm>
            <a:off x="4314960" y="3728880"/>
            <a:ext cx="1780920" cy="2811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e-mail: innov-nn@mail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Рисунок 10" descr=""/>
          <p:cNvPicPr/>
          <p:nvPr/>
        </p:nvPicPr>
        <p:blipFill>
          <a:blip r:embed="rId3"/>
          <a:stretch/>
        </p:blipFill>
        <p:spPr>
          <a:xfrm>
            <a:off x="2425680" y="500040"/>
            <a:ext cx="1828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09160"/>
            <a:ext cx="6858000" cy="276120"/>
          </a:xfrm>
          <a:prstGeom prst="rect">
            <a:avLst/>
          </a:prstGeom>
          <a:solidFill>
            <a:srgbClr val="95b3d7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Педагогическая инноватика 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5" name="Схема 4" descr=""/>
          <p:cNvPicPr/>
          <p:nvPr/>
        </p:nvPicPr>
        <p:blipFill>
          <a:blip r:embed="rId1"/>
          <a:stretch/>
        </p:blipFill>
        <p:spPr>
          <a:xfrm>
            <a:off x="-23760" y="853920"/>
            <a:ext cx="6881760" cy="32608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1595520" y="3181320"/>
            <a:ext cx="5257800" cy="9169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: учебное пособие для вузов. – Издательский центр «Академия», 2008. – 256 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Лазарев В.С., Мартиросян Б.П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. Учебник для студентов высших учебных заведений, обучающихся по направлению 540600 (050700) «Педагогика». – М.: Просвещение, 2006. – 217 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Рисунок 5" descr=""/>
          <p:cNvPicPr/>
          <p:nvPr/>
        </p:nvPicPr>
        <p:blipFill>
          <a:blip r:embed="rId2"/>
          <a:stretch/>
        </p:blipFill>
        <p:spPr>
          <a:xfrm>
            <a:off x="304920" y="2036880"/>
            <a:ext cx="1152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9480" y="173160"/>
            <a:ext cx="6751800" cy="645840"/>
          </a:xfrm>
          <a:prstGeom prst="rect">
            <a:avLst/>
          </a:prstGeom>
          <a:solidFill>
            <a:srgbClr val="8eb4e3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ПЕДАГОГИЧЕСКАЯ ИННОВАТИКА:</a:t>
            </a:r>
            <a:br>
              <a:rPr sz="1400"/>
            </a:br>
            <a:r>
              <a:rPr b="1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понятие, объект, предмет</a:t>
            </a:r>
            <a:br>
              <a:rPr sz="1400"/>
            </a:br>
            <a:endParaRPr b="0" lang="en-US" sz="1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9" name="Схема 4" descr=""/>
          <p:cNvPicPr/>
          <p:nvPr/>
        </p:nvPicPr>
        <p:blipFill>
          <a:blip r:embed="rId1"/>
          <a:stretch/>
        </p:blipFill>
        <p:spPr>
          <a:xfrm>
            <a:off x="36360" y="1103400"/>
            <a:ext cx="6755040" cy="317016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" descr=""/>
          <p:cNvPicPr/>
          <p:nvPr/>
        </p:nvPicPr>
        <p:blipFill>
          <a:blip r:embed="rId2"/>
          <a:stretch/>
        </p:blipFill>
        <p:spPr>
          <a:xfrm>
            <a:off x="304920" y="182520"/>
            <a:ext cx="1152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6880" y="249120"/>
            <a:ext cx="6629400" cy="432000"/>
          </a:xfrm>
          <a:prstGeom prst="rect">
            <a:avLst/>
          </a:prstGeom>
          <a:solidFill>
            <a:srgbClr val="b9cde5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31320" bIns="0" anchor="t">
            <a:noAutofit/>
          </a:bodyPr>
          <a:p>
            <a:pPr marL="61920" indent="0" algn="ctr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4a7b"/>
                </a:solidFill>
                <a:latin typeface="Trebuchet MS"/>
                <a:ea typeface="Trebuchet MS"/>
              </a:rPr>
              <a:t>ПЕДАГОГИЧЕСКАЯ ИННОВАТИКА</a:t>
            </a:r>
            <a:br>
              <a:rPr sz="1300"/>
            </a:br>
            <a:r>
              <a:rPr b="1" lang="ru-RU" sz="1300" spc="-1" strike="noStrike">
                <a:solidFill>
                  <a:srgbClr val="604a7b"/>
                </a:solidFill>
                <a:latin typeface="Trebuchet MS"/>
                <a:ea typeface="Trebuchet MS"/>
              </a:rPr>
              <a:t>Основная литература</a:t>
            </a:r>
            <a:endParaRPr b="0" lang="en-US" sz="1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object 4"/>
          <p:cNvSpPr/>
          <p:nvPr/>
        </p:nvSpPr>
        <p:spPr>
          <a:xfrm>
            <a:off x="950760" y="1320840"/>
            <a:ext cx="5712120" cy="5587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bject 6"/>
          <p:cNvSpPr/>
          <p:nvPr/>
        </p:nvSpPr>
        <p:spPr>
          <a:xfrm>
            <a:off x="966960" y="2616120"/>
            <a:ext cx="5703840" cy="57168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0"/>
                </a:moveTo>
                <a:lnTo>
                  <a:pt x="265176" y="0"/>
                </a:lnTo>
                <a:lnTo>
                  <a:pt x="0" y="265175"/>
                </a:lnTo>
                <a:lnTo>
                  <a:pt x="265176" y="530351"/>
                </a:lnTo>
                <a:lnTo>
                  <a:pt x="7176515" y="530351"/>
                </a:lnTo>
                <a:lnTo>
                  <a:pt x="71765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object 7"/>
          <p:cNvSpPr/>
          <p:nvPr/>
        </p:nvSpPr>
        <p:spPr>
          <a:xfrm>
            <a:off x="933480" y="2017800"/>
            <a:ext cx="5740200" cy="4507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object 13"/>
          <p:cNvSpPr/>
          <p:nvPr/>
        </p:nvSpPr>
        <p:spPr>
          <a:xfrm>
            <a:off x="936720" y="2676600"/>
            <a:ext cx="5734080" cy="5713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19"/>
          <p:cNvSpPr/>
          <p:nvPr/>
        </p:nvSpPr>
        <p:spPr>
          <a:xfrm>
            <a:off x="46080" y="1231920"/>
            <a:ext cx="865080" cy="23972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Рисунок 23" descr=""/>
          <p:cNvPicPr/>
          <p:nvPr/>
        </p:nvPicPr>
        <p:blipFill>
          <a:blip r:embed="rId1"/>
          <a:stretch/>
        </p:blipFill>
        <p:spPr>
          <a:xfrm>
            <a:off x="228600" y="1946160"/>
            <a:ext cx="500040" cy="69372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2" descr=""/>
          <p:cNvPicPr/>
          <p:nvPr/>
        </p:nvPicPr>
        <p:blipFill>
          <a:blip r:embed="rId2"/>
          <a:stretch/>
        </p:blipFill>
        <p:spPr>
          <a:xfrm>
            <a:off x="214200" y="1206360"/>
            <a:ext cx="528840" cy="69876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4"/>
          <p:cNvSpPr/>
          <p:nvPr/>
        </p:nvSpPr>
        <p:spPr>
          <a:xfrm>
            <a:off x="1106640" y="2085840"/>
            <a:ext cx="544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Дидактика: Учебник для вузов. Стандарт третьего поколения. СПб.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итер, 2017.- 720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1066680" y="2709720"/>
            <a:ext cx="5316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: учебное пособие для вузов. – Издательский центр «Академия», 2008. – 256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Рисунок 6" descr=""/>
          <p:cNvPicPr/>
          <p:nvPr/>
        </p:nvPicPr>
        <p:blipFill>
          <a:blip r:embed="rId3"/>
          <a:stretch/>
        </p:blipFill>
        <p:spPr>
          <a:xfrm>
            <a:off x="201600" y="2771640"/>
            <a:ext cx="527040" cy="675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9"/>
          <p:cNvSpPr/>
          <p:nvPr/>
        </p:nvSpPr>
        <p:spPr>
          <a:xfrm>
            <a:off x="88920" y="4132440"/>
            <a:ext cx="6629400" cy="296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254061"/>
                </a:solidFill>
                <a:latin typeface="Calibri"/>
                <a:ea typeface="Calibri"/>
              </a:rPr>
              <a:t>             </a:t>
            </a:r>
            <a:r>
              <a:rPr b="1" i="1" lang="ru-RU" sz="1100" spc="-1" strike="noStrike">
                <a:solidFill>
                  <a:srgbClr val="254061"/>
                </a:solidFill>
                <a:latin typeface="Calibri"/>
                <a:ea typeface="Calibri"/>
              </a:rPr>
              <a:t>КОНТАКТНАЯ ИНФОРМ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3873600" y="4165560"/>
            <a:ext cx="281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254061"/>
                </a:solidFill>
                <a:latin typeface="Arial"/>
                <a:ea typeface="Arial"/>
              </a:rPr>
              <a:t>Тел</a:t>
            </a:r>
            <a:r>
              <a:rPr b="1" lang="en-US" sz="900" spc="-1" strike="noStrike">
                <a:solidFill>
                  <a:srgbClr val="254061"/>
                </a:solidFill>
                <a:latin typeface="Arial"/>
                <a:ea typeface="Arial"/>
              </a:rPr>
              <a:t>.: (831) 468-10-75</a:t>
            </a:r>
            <a:r>
              <a:rPr b="1" lang="ru-RU" sz="900" spc="-1" strike="noStrike">
                <a:solidFill>
                  <a:srgbClr val="254061"/>
                </a:solidFill>
                <a:latin typeface="Arial"/>
                <a:ea typeface="Arial"/>
              </a:rPr>
              <a:t>,</a:t>
            </a:r>
            <a:r>
              <a:rPr b="1" lang="en-US" sz="900" spc="-1" strike="noStrike">
                <a:solidFill>
                  <a:srgbClr val="254061"/>
                </a:solidFill>
                <a:latin typeface="Arial"/>
                <a:ea typeface="Arial"/>
              </a:rPr>
              <a:t> e-mail: innov-nn@mail.r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оугольник 4"/>
          <p:cNvSpPr/>
          <p:nvPr/>
        </p:nvSpPr>
        <p:spPr>
          <a:xfrm>
            <a:off x="1160640" y="1325520"/>
            <a:ext cx="525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Лазарев В.С., Мартиросян Б.П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. Учебник для студентов высших учебных заведений, обучающихся по направлению 540600 (050700) «Педагогика». – М.: Просвещение, 2006. – 217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Рисунок 17" descr=""/>
          <p:cNvPicPr/>
          <p:nvPr/>
        </p:nvPicPr>
        <p:blipFill>
          <a:blip r:embed="rId4"/>
          <a:stretch/>
        </p:blipFill>
        <p:spPr>
          <a:xfrm>
            <a:off x="2670120" y="3859200"/>
            <a:ext cx="12794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2:29:05Z</dcterms:created>
  <dc:creator>danilov@halfbudget.com</dc:creator>
  <dc:description/>
  <dc:language>en-US</dc:language>
  <cp:lastModifiedBy>Kafedra</cp:lastModifiedBy>
  <dcterms:modified xsi:type="dcterms:W3CDTF">2018-06-04T11:20:43Z</dcterms:modified>
  <cp:revision>1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6-01-26T00:00:00Z</vt:filetime>
  </property>
  <property fmtid="{D5CDD505-2E9C-101B-9397-08002B2CF9AE}" pid="3" name="Creator">
    <vt:lpwstr>Microsoft® PowerPoint® 2013</vt:lpwstr>
  </property>
  <property fmtid="{D5CDD505-2E9C-101B-9397-08002B2CF9AE}" pid="4" name="LastSaved">
    <vt:filetime>2018-02-08T00:00:00Z</vt:filetime>
  </property>
</Properties>
</file>